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-360" y="-11169720"/>
            <a:ext cx="360" cy="23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8AB-93AA-410B-A642-F61510E3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1588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BF9-E8D5-4C77-A07F-D46E1E6F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992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FB1-5917-49CD-91E8-FBECF8B6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04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F6A-87C1-463F-87F0-661D3FBF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1C71-59EB-4DC4-96AF-5BFE949C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0863-36C6-4C0B-9D07-487D51B8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6D5E-9B8D-4202-87A7-D11BD9B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3E3B-8DED-4BD5-BCFF-AE66F41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2AAD-B067-4717-BE70-9CF8F076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-272880"/>
            <a:ext cx="838188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BF98-706D-42B5-9499-BFC4C99B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7E96-E0FA-4373-BDCB-D4D2332E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F4E-8BE5-4229-A7F0-0732B1BF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001-43B4-4793-87EB-461EC54B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3687-131A-40D5-879A-958C1FE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11588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B6B5-01B7-4F94-8A0F-0A22E667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992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E5FF-9A9C-45FE-A84B-9C12BB48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040" y="4115880"/>
            <a:ext cx="257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EDC2-723D-4D18-9176-747993F4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E3F-6DD7-4344-AA87-332B77A5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226-C4F4-4D8B-A2BB-C952BEA5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125-04BC-4C56-B5A3-A862446E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272880"/>
            <a:ext cx="838188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68F-2144-488B-88CD-8A7D75D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67B-44E0-4E86-AE96-659DACB3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9920" y="411588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BC4-C9C2-45A5-AC2E-EF985DED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15880"/>
            <a:ext cx="8004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6B7-825B-472D-829D-F133699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3240" cy="5027760"/>
            <a:chOff x="318960" y="1828800"/>
            <a:chExt cx="8823240" cy="5027760"/>
          </a:xfrm>
        </p:grpSpPr>
        <p:sp>
          <p:nvSpPr>
            <p:cNvPr id="1" name=""/>
            <p:cNvSpPr/>
            <p:nvPr/>
          </p:nvSpPr>
          <p:spPr>
            <a:xfrm>
              <a:off x="837720" y="4617000"/>
              <a:ext cx="8304480" cy="223920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00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7720" y="4653360"/>
              <a:ext cx="8304480" cy="22028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7720" y="1828800"/>
              <a:ext cx="731232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7720" y="1828800"/>
              <a:ext cx="45720" cy="2832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280" y="4609080"/>
              <a:ext cx="45720" cy="224712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09080"/>
              <a:ext cx="45694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09080"/>
              <a:ext cx="47520" cy="224712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8080" y="6245280"/>
            <a:ext cx="18986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B8886-CDEB-459D-B5EF-5F5EBF27DE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6840" y="-272880"/>
            <a:ext cx="83818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4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3240" cy="5127480"/>
            <a:chOff x="318960" y="1752480"/>
            <a:chExt cx="8823240" cy="5127480"/>
          </a:xfrm>
        </p:grpSpPr>
        <p:sp>
          <p:nvSpPr>
            <p:cNvPr id="51" name=""/>
            <p:cNvSpPr/>
            <p:nvPr/>
          </p:nvSpPr>
          <p:spPr>
            <a:xfrm>
              <a:off x="33300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7720" y="3809160"/>
              <a:ext cx="8304480" cy="30470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2800"/>
              <a:ext cx="54838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7720" y="1752480"/>
              <a:ext cx="776808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2800"/>
              <a:ext cx="47520" cy="31071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7720" y="1752480"/>
              <a:ext cx="45720" cy="5118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77691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8986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889227-7017-44FE-A95A-0801B6012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4438800" cy="3114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LA GENERACIÓN DEL 98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76360" y="1484280"/>
            <a:ext cx="35276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ÍND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sti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u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7241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90008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4.2. Pío Baroja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 pesimismo existencial se refleja en su ob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estra claramente la actitud inconformista y crítica frente a los defectos de la sociedad: convencionalismo, hipocresías, prejuicios morales, injustici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ler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ende la vida como lucha: la sociedad es el campo de batallas donde se libra “la lucha por la vida”; sólo los más fuertes sobrev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Rasgos de sus novela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tema es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vid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nte al narrador objetivo de la novela realista (s. XIX),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icip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n la acción con comentarios y reflexion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 estilo persigue la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revedad y precis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Su relato fluye rápido y ameno; su lenguaje es cercano al coloquial (antirretórico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El árbol de la cienc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redomina la reflexión pesimista: narra la juventud de Andrés Hurtado, contrafigura de Baroja. El trabajo de médico, la muerte de su hermano pequeño y las lecturas le llevan a sentir la vida como algo mezquin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25304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Parte de la obra de Baroja tiene como marco el País Vasco …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4840200" cy="349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4752720" cy="375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87640" y="5516640"/>
            <a:ext cx="56167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unto a estas líneas, 4 grabados para La busca: estampas del mundo del subproletariado del cinturón industrial de Madr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4.3. José Martínez Ruiz, AZORÍ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3059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su juventud mantuvo posturas radicales sobre la situación del país; evolucionó hacia posturas conserva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obra gira en torno al tema del paso del tiempo. Evoca la realidad en tono tris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igual que los otros escritores del 98, evoca recuerdos de la infancia, pueblos y paisajes, descripciones del paisaje castell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estilo en novela es sencillo, con frases breves y descripciones yuxtapuestas (impresionist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ensayo predominan dos temas: paisaje español y crítica liter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Diferencias y semejanzas entre ambos grupos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260360"/>
            <a:ext cx="8007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SEMEJANZA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iven en los mismos añ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jan la crisis de finales del siglo XIX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hazo de la Literatura realista y simplo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o de renovación social y esté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 al subjetiv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79280" y="291960"/>
            <a:ext cx="8818200" cy="6367680"/>
            <a:chOff x="179280" y="291960"/>
            <a:chExt cx="8818200" cy="6367680"/>
          </a:xfrm>
        </p:grpSpPr>
        <p:sp>
          <p:nvSpPr>
            <p:cNvPr id="143" name=""/>
            <p:cNvSpPr/>
            <p:nvPr/>
          </p:nvSpPr>
          <p:spPr>
            <a:xfrm>
              <a:off x="4588560" y="5711760"/>
              <a:ext cx="4408920" cy="947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Lenguaje sencillo y personal (dan más importancia al contenido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9280" y="5711760"/>
              <a:ext cx="4409280" cy="9478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Lenguaje sensorial, estético y evocador (simbolista): la forma es lo principal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88560" y="4927680"/>
              <a:ext cx="4408920" cy="785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Géneros: el ensayo y la novela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9280" y="4927680"/>
              <a:ext cx="4409280" cy="7858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Los géneros preferidos: lírica y prosa poética renovada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88560" y="4143240"/>
              <a:ext cx="4408920" cy="784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Gusto por el lenguaje antiguo y los dialecto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" y="4143240"/>
              <a:ext cx="4409280" cy="78444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Gusto por lo brillante o decorativo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88560" y="3360600"/>
              <a:ext cx="4408920" cy="782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Denuncia de la decadencia moral y social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9280" y="3360600"/>
              <a:ext cx="4409280" cy="78264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 Evasión hacia lo lejano y hacia el intimismo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88560" y="2413080"/>
              <a:ext cx="4408920" cy="94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Temas patriótico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2413080"/>
              <a:ext cx="4409280" cy="9475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  Temas de tradiciones diversas: clásicas, medievales, exóticas, et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88560" y="1901880"/>
              <a:ext cx="4408920" cy="511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Reflexión sobre España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80" y="1901880"/>
              <a:ext cx="4409280" cy="51120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   Gusto por lo particula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8560" y="954000"/>
              <a:ext cx="4408920" cy="947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Se desarrolla en la literatura castellana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954000"/>
              <a:ext cx="4409280" cy="9478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192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-   Se desarrolla en Hispanoamérica y España, con influencia europea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88560" y="291960"/>
              <a:ext cx="4408920" cy="663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                       </a:t>
              </a: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GRUPO DEL 9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291960"/>
              <a:ext cx="4409280" cy="6638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DIFERENCIAS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39840" indent="-339840" algn="just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                             </a:t>
              </a:r>
              <a:r>
                <a:rPr b="1" lang="en-US" sz="1800" spc="-1" strike="noStrike">
                  <a:solidFill>
                    <a:srgbClr val="000014"/>
                  </a:solidFill>
                  <a:latin typeface="Arial"/>
                  <a:ea typeface="Times New Roman"/>
                </a:rPr>
                <a:t>MODERNISM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280" y="29196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665784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280" y="291960"/>
              <a:ext cx="1440" cy="63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96040" y="291960"/>
              <a:ext cx="1440" cy="63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280" y="955800"/>
              <a:ext cx="881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8560" y="291960"/>
              <a:ext cx="1080" cy="63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280" y="1901880"/>
              <a:ext cx="881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9280" y="2413080"/>
              <a:ext cx="881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336060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280" y="414324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4927680"/>
              <a:ext cx="881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9280" y="5711760"/>
              <a:ext cx="881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5200" indent="-835200">
              <a:lnSpc>
                <a:spcPct val="100000"/>
              </a:lnSpc>
              <a:buClr>
                <a:srgbClr val="ffffb7"/>
              </a:buClr>
              <a:buFont typeface="Arial Black"/>
              <a:buAutoNum type="arabicPeriod"/>
              <a:tabLst>
                <a:tab algn="l" pos="835200"/>
                <a:tab algn="l" pos="1282680"/>
                <a:tab algn="l" pos="1731960"/>
                <a:tab algn="l" pos="2181240"/>
                <a:tab algn="l" pos="2630520"/>
                <a:tab algn="l" pos="3079800"/>
                <a:tab algn="l" pos="3529080"/>
                <a:tab algn="l" pos="3978360"/>
                <a:tab algn="l" pos="4427640"/>
                <a:tab algn="l" pos="4876920"/>
                <a:tab algn="l" pos="5326200"/>
                <a:tab algn="l" pos="5775480"/>
                <a:tab algn="l" pos="6224760"/>
                <a:tab algn="l" pos="6673680"/>
                <a:tab algn="l" pos="7122960"/>
                <a:tab algn="l" pos="7572240"/>
                <a:tab algn="l" pos="8021520"/>
                <a:tab algn="l" pos="8470800"/>
                <a:tab algn="l" pos="8920080"/>
                <a:tab algn="l" pos="9369360"/>
                <a:tab algn="l" pos="981864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autores coetáneos de los modernistas (límites difus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. del 98”: nombre dado por Azorín al grupo de escritores que desean cambiar la vida de España (preocupación por España y sus problemas: corrupción, atraso, incultura, conservadurismo …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3851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.1 Características de estos escritores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 edades son aproxim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an como maestro a Lar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een un formación común (lecturas de Nietzsche, Schopenhauer, etc.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acontecimiento los une: el desastre de 189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nen las mismas preocupaciones: pobreza de España, atraso, influencia negativa de la Iglesia (anticlericales)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énero ideal es el ensayo; renuevan la nov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. Temas de esta generación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507520" cy="62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ema principa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el tema o problema de España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Unamuno dirá: “me duele España”). Tratan de entend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é es Españ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e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España 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til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hablan de ella a travé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 paisa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dan una visión subjetiva de ese paisaje sobrio y austero)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 histo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obre todo de la “intrahistoria” o “vida callada de los millones de hombres sin historia”) 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 literatu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mantes de la literatura medieval, de nuestros clásicos,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uijo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de autores que se preocuparon por España: Larr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risis de fin de sig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e refleja en los conflictos existenciales, la angustia, la voluntad o su contrario (la abulia) para afrontar la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r por Españ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terés por valores patrióticos y castizos y por la europeización del país (para solucionar los problem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Los conflictos existenciales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o de los núcleos temáticos de modernistas y noventayochist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del 98 abordan la expresión de la angustia vital y problemas religiosos de manera más profunda,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hado se centra en el destino del hombre, el paso del tiempo, la muert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ío Baroja muestra personajes descontentos con el mundo y falta de sentido de sus v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Unamuno los conflictos existenciales y religiosos se presentan de forma más dra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240080" y="1844640"/>
            <a:ext cx="4683240" cy="4797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91880"/>
            <a:ext cx="8591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 Black"/>
              </a:rPr>
              <a:t>3. Características estilísticas de esta generación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215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ilo predominante: antirretórico y cuidado (rico en términos de carácter tradicional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nos pesimistas y angustiado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arecen los problemas existenciales y religios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yen del esteticismo modernista y de la prosa simplona de los realist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optan un pensamiento subjetivo (a veces apasionado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nte a las descripciones exhaustivas de la novela realista (s. XIX), prefieren las descripciones de tipo impresionista (a base de pinceladas y deformaciones…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 Autores principal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uel de Unamu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ío Baro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orí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ez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Mach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le-Incl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620720" cy="1996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4724280"/>
            <a:ext cx="1357560" cy="1941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35640" y="3860640"/>
            <a:ext cx="1603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18360" y="189000"/>
            <a:ext cx="1716120" cy="2376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1. Miguel de Unamun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él los conflictos existenciales y religiosos son más angustio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 una persona compleja y contradictoria: se debate entre la fe y la razón (lucha por conciliar su mente “deseosa de razón” y su corazón “necesitado de Dios”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sus textos, la angustia es const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 dudas y contradicciones aparecen en sus diferentes ensayos y novelas (él las llama “nivolas”), por ejemplo 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n Manuel Bueno Márt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5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114640" cy="2590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7720" y="244440"/>
            <a:ext cx="5575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San Manuel Bueno Márti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a corta que discurre en un pueblo pequ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 sacerdote es Don Manuel; la llegada de Lázaro, hermano de Ángela (la narradora), turba la paz de los habitantes del pueb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zaro es un “indiano” de ideas revolucionar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cura tampoco cree en la “inmortalidad del alma” pero convence a Lázaro de la necesidad de mantener al pueblo en la ignorancia: sólo la esperanza de otra vida mejor compensa a los po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n Angel</cp:lastModifiedBy>
  <dcterms:modified xsi:type="dcterms:W3CDTF">2008-10-22T12:03:34Z</dcterms:modified>
  <cp:revision>1</cp:revision>
  <dc:subject/>
  <dc:title>LA GENERACIÓN DEL 98</dc:title>
</cp:coreProperties>
</file>